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4B8-988B-4143-AF93-0F7EFFE9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DD0-BC4C-4A65-981D-80671264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02B-A854-4D9D-B881-5FA588F5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998-FAC4-4A0A-B050-115E516D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4356-FF03-4A0F-B8B8-27F1CA7E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081D-B992-4DA9-BE98-50462BAD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9B86-8B3D-4D83-B410-C47270AD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F1F1-7DD6-46FB-81D0-0AF00240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C697-D43E-414E-9D47-0E259451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FC6B-100E-42DC-AB18-5999702C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86D7-24E5-4650-A89C-15FFBDF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E83-D8C5-4E85-B8C0-526F82E3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F24D-7AF2-4623-89C7-75145E7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668C-0B44-4BA7-94AA-39123B4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6E86-1608-4958-9E8C-C54F5054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2C1-6DDD-4844-BEBB-E0A8B6ED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E142-C2AC-4805-87E4-C823063C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23F-169C-49FD-9987-7F3CE826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6E7-0FDE-4AA2-A890-5BFA5EE2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B59-6246-4FFA-A0B0-E3C63D7D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737-FD84-4FD5-BDC3-8B419EF6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C06-5DF8-4037-87DB-275107C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DE2-BD58-4DA7-A283-F01349C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B5E-AEBC-4BD5-9D4C-0CFAC33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8C1F-1025-47ED-B2FE-C021C4CE64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ADA0-AD8B-49DE-90F7-42CC5ACAA6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KINE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Z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TERAPIJ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c. Dr Tanja Lukovi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Fiziološki efekti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10-20 puta veći lokalni proto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15-25% MV srca     75% M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iseoničko osiromašenje krvi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većanje srčane frekvencije i UV (2-3 x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većanje pulsa i 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7-8 l    30-40 l/min vazdu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istaltika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krecij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ud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 kise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tabolizam: vode, elektrolita, termoregulacija, acidoza, sagorevanje masti i šećer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4495680" y="2438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2209680" y="4572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Kинезитерапијa LM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 условљава и промене на рефлексним релејним везама, како на нивоу спиналн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тако и на вишем ниво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оводи до стварања нових шема покрета и моторичке актив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Evaluacija funkcija L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renje dužine ekstremit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renje obima ekstremit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renje obima pokreta u zglobov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anuelno testiranje mišićne sn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DŽ t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Terapeutske vežb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u sistematizovani, svrsishodni pokreti koji treba da doprinesu očuvanju, uspostavljanju ili zameni oštećene pokretljiv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asivne vež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tivne vež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aktivno-potpomognu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aktiv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aktivne sa otperećen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авремене метод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unkow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Regan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NF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bath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jta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мето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ежбe у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суспензиј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leinVogelbach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c Kenz</a:t>
            </a:r>
            <a:r>
              <a:rPr b="0" lang="sr-Latn-CS" sz="2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техни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9"/>
          <a:stretch/>
        </p:blipFill>
        <p:spPr>
          <a:xfrm>
            <a:off x="457200" y="2762280"/>
            <a:ext cx="403848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ljevi</a:t>
            </a:r>
            <a:r>
              <a:rPr b="0" lang="sr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erapeutskih</a:t>
            </a:r>
            <a:r>
              <a:rPr b="0" lang="sr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ežb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ržanj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i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im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kret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glob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g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rdinacij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kr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zin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kr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kaln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držljiv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omatizac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dicij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Pasivne vežb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incipi: - stabilizacija proksimalnih zglob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ridržavanje distalnih svih zglobov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do b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lagani, glatki pokreti, bez istezan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fekti:  - održavanje fiziološke dužine mišić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održavanje obima pokreta u zglobovim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aferentacija segmenta stimulacijom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propriocepc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stimulacija trofike i reflek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riprema za aktivne vež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ntraindikacije: - sveže povre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mlitave oduzet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zapaljenski reumatiz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2.1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Aktivno potpomognute vežb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moć terapeu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uspenz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vo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moć zdravim ekstremitet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Principi                                                   Efek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bjasniti bolesniku šta da radi             - jačanje mišić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užiti minimalnu pomoć                    - preduslo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zbegavati upotrebu dr. mišića               koordinac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ratak odmor posle svakog pokr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2.2.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Aktivne vežb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rincip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detaljno pokazati sve faze vežb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dozirati teži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acijent ne sme biti s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Efek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boljšanje koordinac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ovećanje brz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automatizac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opšta izdržljiv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2.3.</a:t>
            </a: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Aktivne vežbe sa opterećenj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ptereće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proizvoljno: ekspander, manuel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zir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: tegovi, dina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tar, pul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par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r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-10 kontrakcija max opterećenja 6 m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rm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Kineziterapija - definicij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ineziterapija (gr. kinein-kretati se) je oblast fizikalne terapije koja se bavi primenom vežbi radi očuvanja, uspostavljanja, razvijanja i zamene funkcije lokomotornog siste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gens 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kre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Doziranje kineziter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četni položa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pterećen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rzina pokr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mplituda pokre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roj ponavljan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užina polu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epen zamora pre kineziterapi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epen pripremljenosti drugim agensi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Indikacije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Traumatolog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osle povreda mekih  tkiva, preloma i komplik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rtoped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deformacije kičmenog stuba (skolioze, kifoze),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eformacij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stopala, poremećaji okoštavanja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osle osteotomija, artoplastika, artrodeza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eurolog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eriferne i centralne oduzet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miopatije, mioziti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Indikacije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Reumatolog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zapaljenski, vanzglobni, degenerativni u r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Ginekologija i akušerstvo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osle operacija, prevencija komplik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riprema za bezbolan porođaj, posle porođa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Hirurgija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pre i posle operativnih zahvata u neurohirurgiji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skularnoj, grudnoj, opštoj hirurgiji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Kontraindikacije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lokal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kutno zapaljen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krvaren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bolov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TB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psolutnih kontraindikacija nema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pš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febril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visok 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insuficijencija srca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ubrega, jetre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teža respiratorna oboljen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Kinezisal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3" name="Picture 4" descr="IMG_0073"/>
          <p:cNvPicPr/>
          <p:nvPr/>
        </p:nvPicPr>
        <p:blipFill>
          <a:blip r:embed="rId1"/>
          <a:stretch/>
        </p:blipFill>
        <p:spPr>
          <a:xfrm>
            <a:off x="1550880" y="1600200"/>
            <a:ext cx="6983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Picture 019"/>
          <p:cNvPicPr/>
          <p:nvPr/>
        </p:nvPicPr>
        <p:blipFill>
          <a:blip r:embed="rId1"/>
          <a:stretch/>
        </p:blipFill>
        <p:spPr>
          <a:xfrm>
            <a:off x="533520" y="457200"/>
            <a:ext cx="705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7" name="Picture 4" descr="slika8V"/>
          <p:cNvPicPr/>
          <p:nvPr/>
        </p:nvPicPr>
        <p:blipFill>
          <a:blip r:embed="rId1"/>
          <a:stretch/>
        </p:blipFill>
        <p:spPr>
          <a:xfrm>
            <a:off x="380880" y="228600"/>
            <a:ext cx="7848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buka zaštitnim položaji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9" name="Picture 5" descr="pozv9"/>
          <p:cNvPicPr/>
          <p:nvPr/>
        </p:nvPicPr>
        <p:blipFill>
          <a:blip r:embed="rId1"/>
          <a:stretch/>
        </p:blipFill>
        <p:spPr>
          <a:xfrm>
            <a:off x="533520" y="228600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pozv10"/>
          <p:cNvPicPr/>
          <p:nvPr/>
        </p:nvPicPr>
        <p:blipFill>
          <a:blip r:embed="rId2"/>
          <a:stretch/>
        </p:blipFill>
        <p:spPr>
          <a:xfrm>
            <a:off x="5300640" y="1523880"/>
            <a:ext cx="3538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313"/>
          <p:cNvPicPr/>
          <p:nvPr/>
        </p:nvPicPr>
        <p:blipFill>
          <a:blip r:embed="rId1"/>
          <a:stretch/>
        </p:blipFill>
        <p:spPr>
          <a:xfrm>
            <a:off x="762120" y="228600"/>
            <a:ext cx="2295360" cy="147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314"/>
          <p:cNvPicPr/>
          <p:nvPr/>
        </p:nvPicPr>
        <p:blipFill>
          <a:blip r:embed="rId2"/>
          <a:stretch/>
        </p:blipFill>
        <p:spPr>
          <a:xfrm>
            <a:off x="3581280" y="304920"/>
            <a:ext cx="2283120" cy="1500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315"/>
          <p:cNvPicPr/>
          <p:nvPr/>
        </p:nvPicPr>
        <p:blipFill>
          <a:blip r:embed="rId3"/>
          <a:stretch/>
        </p:blipFill>
        <p:spPr>
          <a:xfrm>
            <a:off x="6172200" y="304920"/>
            <a:ext cx="2233440" cy="1500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316"/>
          <p:cNvPicPr/>
          <p:nvPr/>
        </p:nvPicPr>
        <p:blipFill>
          <a:blip r:embed="rId4"/>
          <a:stretch/>
        </p:blipFill>
        <p:spPr>
          <a:xfrm>
            <a:off x="1066680" y="1962000"/>
            <a:ext cx="2295720" cy="1535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317"/>
          <p:cNvPicPr/>
          <p:nvPr/>
        </p:nvPicPr>
        <p:blipFill>
          <a:blip r:embed="rId5"/>
          <a:stretch/>
        </p:blipFill>
        <p:spPr>
          <a:xfrm>
            <a:off x="3657600" y="23623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318"/>
          <p:cNvPicPr/>
          <p:nvPr/>
        </p:nvPicPr>
        <p:blipFill>
          <a:blip r:embed="rId6"/>
          <a:stretch/>
        </p:blipFill>
        <p:spPr>
          <a:xfrm>
            <a:off x="6172200" y="23623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319"/>
          <p:cNvPicPr/>
          <p:nvPr/>
        </p:nvPicPr>
        <p:blipFill>
          <a:blip r:embed="rId7"/>
          <a:stretch/>
        </p:blipFill>
        <p:spPr>
          <a:xfrm>
            <a:off x="1523880" y="434340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320"/>
          <p:cNvPicPr/>
          <p:nvPr/>
        </p:nvPicPr>
        <p:blipFill>
          <a:blip r:embed="rId8"/>
          <a:stretch/>
        </p:blipFill>
        <p:spPr>
          <a:xfrm>
            <a:off x="3886200" y="4572000"/>
            <a:ext cx="1305000" cy="175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" descr="321"/>
          <p:cNvPicPr/>
          <p:nvPr/>
        </p:nvPicPr>
        <p:blipFill>
          <a:blip r:embed="rId9"/>
          <a:stretch/>
        </p:blipFill>
        <p:spPr>
          <a:xfrm>
            <a:off x="6858000" y="4495680"/>
            <a:ext cx="1351080" cy="17528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0"/>
          <p:cNvSpPr/>
          <p:nvPr/>
        </p:nvSpPr>
        <p:spPr>
          <a:xfrm>
            <a:off x="762120" y="1752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7. Trbušna pozicija Brunkow-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3429000" y="1752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8.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Četvoronož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6095880" y="17524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Četvoronož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838080" y="37339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0.Četvoronož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3276720" y="388620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1.Boč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6019920" y="3809880"/>
            <a:ext cx="238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2.Bočna pozicij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685800" y="61722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3.Koleni položaj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3124080" y="627696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4.Koleni položaj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28"/>
          <p:cNvSpPr/>
          <p:nvPr/>
        </p:nvSpPr>
        <p:spPr>
          <a:xfrm>
            <a:off x="6019920" y="627696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lika 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5.Stojeći položaj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runkow-</a:t>
            </a:r>
            <a:r>
              <a:rPr b="0" i="1" lang="sr-Latn-BA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Kineziterapija za tortikoli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46836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žbe istezanja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,u ritmu povijanja deteta,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0" y="20574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Пoкр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oм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лo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њу з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с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ст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,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ла медикаментозна средства не могу заменити покре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оt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тање значи живот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zicioniranje leve hemipleg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39640" y="1771560"/>
            <a:ext cx="4038840" cy="347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648320" y="1771560"/>
            <a:ext cx="403848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amoaktiviranje  kod hemiplegičar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Picture 3" descr="HWScan00236444"/>
          <p:cNvPicPr/>
          <p:nvPr/>
        </p:nvPicPr>
        <p:blipFill>
          <a:blip r:embed="rId1"/>
          <a:stretch/>
        </p:blipFill>
        <p:spPr>
          <a:xfrm>
            <a:off x="324000" y="2133720"/>
            <a:ext cx="7372080" cy="4267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HWScan002347"/>
          <p:cNvPicPr/>
          <p:nvPr/>
        </p:nvPicPr>
        <p:blipFill>
          <a:blip r:embed="rId2"/>
          <a:stretch/>
        </p:blipFill>
        <p:spPr>
          <a:xfrm>
            <a:off x="5148360" y="4535640"/>
            <a:ext cx="3024000" cy="45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amoaktiviranje i pasivne vežbe kod hemiplegičar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1" name="Picture 4" descr="HWScan00233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HWScan002347"/>
          <p:cNvPicPr/>
          <p:nvPr/>
        </p:nvPicPr>
        <p:blipFill>
          <a:blip r:embed="rId2"/>
          <a:stretch/>
        </p:blipFill>
        <p:spPr>
          <a:xfrm>
            <a:off x="4419720" y="3048120"/>
            <a:ext cx="4495680" cy="3666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Kineziterapija - istorij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odokus, Hipokrat, Galen: dokazi o korišćenju vežbi u leče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XIX v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Ling osnova kineziterap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1857. Ežen D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II sv. rata centralno mesto u okviru nove grane medic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Физиолошке основе кинезитерапиј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 кинезитерапије је активни покр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и физички напор пра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 је одговарајућим физиолошким променама на респираторном кардиоваскуларно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рвном систем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urofiziološke</a:t>
            </a:r>
            <a:r>
              <a:rPr b="0" lang="sr-C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snove</a:t>
            </a:r>
            <a:r>
              <a:rPr b="0" lang="sr-C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na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rakcij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zultat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ženo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ni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voim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cij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orn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ost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ls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ornih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ćelij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ždane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kore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kortikalnih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cij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pevaju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ramidni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strapiramidni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o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kičmene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ždin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tim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k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ferno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orno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n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uromišićne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pojnic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šićnog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kn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Neurofiziološke osno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torna jedinic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sva mišićna vlakna inervisana od strane jedne motorne ćelije prednjih rogova kičmene moždin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ije anatomska nego funkcionalna jedin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α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motorni neuro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kstafuzalna vlakna-pokret ili stabilizacij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γ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motorni neuron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trafuzalna vlakna-posturalnu pripremu pokret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ereotip pokret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automatizovani, lako izvodljivi bez većeg utroška energije zahvaljujući “programiranju” ekstrapiramidnog sist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oz inaktivitet se gas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Мировање и мишићна снаг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стетички импулси се  не формирају јер нема активности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суство аферентације и фасилитације ЦНС 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ашење енграма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убитак координације и аутоматизма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рофи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ишића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 гипсане имобилизације мишићи   пропадају  1,5 до 3,0% дневно или 10 до 20% недељно. Да би ојачали ослабљене мишиће потребно је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пло дуже време од настанка хипотрофије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97828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imes New Roman"/>
              </a:rPr>
              <a:t>Kineziološke osnove kineziterap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lu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brzine (lakat, podizanje na prst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snage (zglobovi GE i 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ravnoteže (atlanto-okcipitalni, kukovi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šićna kontrakcija je stanje razdražl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sti mišića koja teži njegovom skraćenju, bez obzira da li postiž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vrste: izometrijska i izotonič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odela mišića prema funkci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agon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antagon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sinergi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 fiksator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HERI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ON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OV ZAKON RECIPROČNE INERVACI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8:50:12Z</dcterms:created>
  <dc:creator>Bill Gates</dc:creator>
  <dc:description/>
  <dc:language>en-US</dc:language>
  <cp:lastModifiedBy>Info</cp:lastModifiedBy>
  <dcterms:modified xsi:type="dcterms:W3CDTF">2018-12-10T07:50:35Z</dcterms:modified>
  <cp:revision>19</cp:revision>
  <dc:subject/>
  <dc:title>KINEZITERAPIJA</dc:title>
</cp:coreProperties>
</file>